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0EB3-42F0-496A-84C4-D4C88C06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6965-4D54-4728-94E3-FD9713207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EE4F-76EE-4132-9FD9-E6860B69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574E-BC98-4279-B60B-396D574AD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65F15-428F-410C-B355-25A8CE286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57E9E-CAD6-450C-B200-4ED5CAB7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3358-69E9-46AC-8E8A-6D4841B6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A4A2-E702-460C-9918-C337154E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17CE-58FC-4A96-833E-D892B3C1B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9695-215A-496B-BC6D-06A3611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CA0C-E7E3-4650-BF0B-23E08AFF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7E99-857A-451C-80BB-BE9ED2AEC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C371A-E6E0-4B43-8F0B-9DE46EEE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D214-1330-4D58-BA35-0169A727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7CD6-76B3-47C6-9701-C45DF959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EE41-029A-4C29-ADE5-0DC1B1BF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A67E2-347B-43CB-A94C-3BD235ADD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EE4-0267-4125-9E8E-DA18C80C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87A-611A-4543-BB01-A9129C2B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8182-B09A-419B-80D2-25488540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F4AC-B20C-4F73-898C-98C386B6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20F4-5368-44EC-BA13-8FE807DF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CA9-49BE-49E3-8940-AAB4A192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099F-8318-43C6-A146-783F69C3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DDF1-57D5-4318-B2F3-D2C7119BBB3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5DE-C5CD-4E01-BD68-230CD8C1AAC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28600" y="152280"/>
            <a:ext cx="8686800" cy="65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utline should look something like thi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:  Blah blah blah blah  (what you wrote on your workshee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oduction  (Write a brief explanation of what kind of strategy you will take when creating your anecdotal intr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ad-In Paragraph- Group Member’s Nam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include several strategies that hook the reader.  You should include lots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vidence, statistics, and inform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gives the reader lots to contemplate.  You should end this paragraph with your propos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posal/ Solution Paragraph – Group Memb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should represent your proposal and th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uidelines or solutio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at drive your proposal.  You can be specific here and use real or fake evidence to drive the point.  This is also a good place for satirical or persuasive devic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buttal – Group Member’s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should have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at least 3 opposition state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your proposal in which you address with evidence –real or contrived- what makes your proposal so perfect.  Use persuasion techniques here as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125"/>
              </a:spcBef>
              <a:buClr>
                <a:srgbClr val="ffffff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 (Write a brief explanation of the summary of points you will address in the conclusion and what your call to action i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2T20:43:30Z</dcterms:created>
  <dc:creator>User</dc:creator>
  <dc:description/>
  <dc:language>en-US</dc:language>
  <cp:lastModifiedBy>User</cp:lastModifiedBy>
  <dcterms:modified xsi:type="dcterms:W3CDTF">2007-04-13T13:16:19Z</dcterms:modified>
  <cp:revision>4</cp:revision>
  <dc:subject/>
  <dc:title>Slide 1</dc:title>
</cp:coreProperties>
</file>